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221-48F4-46C7-AB85-44887602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460-FAF7-44D8-BEE8-B64943B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C10-A072-49F6-9B52-9941F57E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25B-38B9-4BF6-8CD8-4D05F7F8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8BF1-9F0D-4338-AF61-BA6F30EE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BA47-7C81-4E92-971B-AD750952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C73-5DBB-4D16-89B3-F3035DB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D64-3FBF-4257-BB86-E0CF2C1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072-C7C4-40CF-B81B-27681AD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56B-B8CE-49E2-8A9D-9EA7EDEF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5C66-29C4-4C89-9883-FEBE3DC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61F-A1FC-464B-8AA4-915B84D0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F99E-71DD-44A6-A71D-A474B49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F51B-4DF0-43FF-9EE6-D89BA83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7B77-5515-4581-A7D0-8D3A50B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3FCB-631B-4582-81F9-B681E76A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911F-17E8-43F4-A1ED-EB253845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89D5-A5DC-491D-B42B-577C80FF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C9FE-8E16-4EBE-97BE-E44D856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A80B-F30F-4869-A4E0-164841B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A4F0-D1DE-4F7D-BD1A-319B02B3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78EF-6144-45D5-8CAD-BE1D4F8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A40-1A6E-46F5-AC64-1A64BCD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A4F5-B345-4880-9977-0284320D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19F8-0237-4F83-8136-A5AA49D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DEB1-D0AB-41C4-91F4-52C11E4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7ED4-3B69-41C6-8F55-09174D7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E9E6-2555-4B80-968B-839D5F3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08BF-A7A9-4309-B8C2-922E2680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7489-610F-4A3C-998F-3A124A4C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A578-13AF-4E4E-AFC8-2059F663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76C1D-5CAC-4303-AD60-EEA05F2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6FAD-EB87-4DFB-B488-A21C25ED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8C0-EFAF-4F34-A2A5-5C0EA78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7FE7-59ED-4290-86F8-F0447A99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9EFE-7092-4464-8980-2819B81E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C8C9-5251-46DA-B339-A1B5C02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5731-1EAA-476D-A05F-86DE660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2B4F-DB33-487E-B5BE-6D4562A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8FB8-68FC-43FA-B8AA-CA42A51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063D-E091-477C-B520-6DF3FEC7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00D6-9F40-420D-BEF4-B0F45A01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4534-51A1-4211-8A01-E2D4D246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EB53-ED79-407A-AD51-B6610D1F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240-5DB9-47D3-A823-8615E84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73E6E-C04F-473A-86F3-56B86314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BD3E-1BC2-44A6-863C-01F8E35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329A-81C0-4D49-B5A0-9C98FD4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03582-F3A8-458E-9D46-3800E047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6F84-A127-46F1-BF37-95FB566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C1F5-9C23-4C97-A008-2C239FB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78D3-9B1F-4EFF-A91E-40DF4D7A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C836-DB37-47A1-88AC-DAF09260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3DCC-22B1-46C7-A3B5-8F76C323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03B06-DA85-4FC1-9C5F-A819ADA5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F6D-156F-4713-A47F-468FB08A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D338-3963-4234-AD37-86669793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84F83-A55F-4FFC-B600-522B30A3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3D19-6CE8-4A22-BA35-7650032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5E123-EEBB-497C-9EA8-135A6994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A279-D90F-4BBE-9040-B58930A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52B30-0D0A-4F90-8DAD-3005AF7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EE394-F8A2-4027-B4AD-918C060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8248-E649-46F1-8F4F-F8AFFD94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8E8D3-71B1-4674-ACA1-A36C84B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45BCB-BDE4-435F-8BEB-A73CD19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2CD-DEDF-4C94-BFC1-764EFB4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68C7-A760-432C-B833-42F20B15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D0E4B-508C-40AB-A6D4-F63D35CB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6A66-D4A8-41D3-90EC-59D097D0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7E7F-49B4-4821-8404-55B11034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9861-1727-4D1D-A146-4AE708CF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D0D0-0C1B-4DB9-85DE-56638A78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D30D-A0C9-4BA3-A406-9D90EDF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8A41C-DB9D-4DB7-8483-B1A5C6C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C5363-6886-47FA-B119-38AE4A02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C0B3-7432-4B8F-BD20-BF0CB09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FFC-EE47-437F-AD12-1F4743E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FF84-A595-400B-B2B6-8D37F5E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5953-4E07-4622-9036-E0FE96D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4948-560F-407E-AF7E-CC4CB3D2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1BBC-82C6-4867-864D-5B311933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D9DC-1153-4C69-A7D7-C4D3DEE6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3F1-F425-4DEC-B19D-4EB860C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F85-9573-4A70-B10D-E719F0918FA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AFE-2F12-4418-8FE9-5CD8C8F7135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F9D-AEBE-4027-A1FC-1221CDF405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2CB-7D19-4DA0-B042-30E9B5FC928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E5A-95B8-46A2-A694-624D51F5F7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CBD-087E-42D1-AACA-1F8C0419B4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EF4-4905-4CA8-8A50-EC6FA1ED22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572314"/>
                </a:solidFill>
                <a:latin typeface="Cambria"/>
                <a:ea typeface="Cambria"/>
              </a:rPr>
              <a:t>ПРОЦЕНА ФУНКЦИОНАЛНИХ И МОТОРИЧКИХ СПОСОБНОСТИ КОД </a:t>
            </a:r>
            <a:r>
              <a:rPr b="1" lang="fr-FR" sz="2800" spc="-1" strike="noStrike">
                <a:solidFill>
                  <a:srgbClr val="572314"/>
                </a:solidFill>
                <a:latin typeface="Cambria"/>
                <a:ea typeface="Cambria"/>
              </a:rPr>
              <a:t>БОЛЕСНИКА СА ЕНДОПРОТЕЗОМ КОЛЕНА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7560" y="3504960"/>
            <a:ext cx="7407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ПАРЦИЈАЛНЕ ЕНДОПРОТЕЗ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47560" y="1599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арцијалне ендопротезе се уграђују уколико је оштећен само спољашњи или унутрашњи део зглоба, али су остали делови зглоба, првенствено хрскавица, очуван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 тако, осовина ноге не сме бити изразито промењена („О“ или „X“ ноге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ahoma"/>
                <a:ea typeface="Tahoma"/>
              </a:rPr>
              <a:t>ПАРЦИЈАЛНЕ ЕНДОПРОТЕЗ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71600" y="1294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Предности уградње парцијалне ендопротеза с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мали оперативни рез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мањи губитак крв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мања могућност настанка инфекциј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мање постоперативне тегобе 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 х краћ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рехабилитациј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ТОТАЛНА ЕНДОПРОТЕЗА КОЛЕН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Долази до замене целог зглоб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Могу бит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бесцемент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цемент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Феморални део протез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је грађен од метала (легуре кобалта  и хрома)који се уграђују на кондиле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Тибијани део ендопротез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је грађен од метала (најчешће титанијума или легуре кобалта и хрома) док је уложак грађен од полиетиленске пластик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ИНДИКАЦИЈЕ ЗА АТРОПЛАСТИКУ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47560" y="16761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код болесника са јаким боловим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са ограниченом покретљивошћ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лошим квалитетом живо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са узнапредовалом артрозом коленог зглоб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Tahoma"/>
                <a:ea typeface="Tahoma"/>
              </a:rPr>
              <a:t>Ендопротеза колен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ајање ендопротез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колена је ограничено због трошења материјал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носи око 15 годи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Код истрошене ендопротезе јавља се н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абилност, ревизиј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ahoma"/>
                <a:ea typeface="Tahoma"/>
              </a:rPr>
              <a:t>РЕХАБИЛИТАЦИЈ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Циљ је што бржи повратак функције замењеног зглоба и побољшање квалитета живот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Што бржи повратак свакодневним активностима и повратак радним обавезам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orbel"/>
              </a:rPr>
              <a:t>Преоперативна рехабилитациј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Едукацију пацијенат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оја се може спроводити на одељењима или у кући пацијента а односи се на то да се пруже информације о предстојећој интервенцији, мерама опреза, току опоравк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Функционално-кинезиолошка процен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болелог екстремитет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ТХ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јачање мускулатуре ГЕ и раменог појаса, вежбе опште кондиције, вежбе дисања, вежбе обуке ходања са помагалом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4. Вежбе истезања и додатна терапија ради савладавања евентуалних контрактур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сихолошку припрема пациј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Постоперативна рехабилитациј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475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Tahoma"/>
                <a:ea typeface="Tahoma"/>
              </a:rPr>
              <a:t>Циљ рехабилитациј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ј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.  рана мобилизација пацијената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. превенција компликација које могу настати због дуже везаности за постељу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. постизање оптималног обима покрета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4. јачање мишића покретача зглоба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. побољшање баланса и координације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6. постизање коректног, економичног и естетски задовољавајућег ход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Постоперативни обим покрет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475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МОП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акон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ПТГ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j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една од кључних детерминанти укупне постоперативне функциј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  МОП утич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зиција компонената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оперативни РОМ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ензиј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L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-а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естабилност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дизајн протезе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ражен постоперативни бол, 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ш одговор на рехабилитациони програм 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ff0000"/>
                </a:solidFill>
                <a:latin typeface="Corbel"/>
              </a:rPr>
              <a:t>РЕХАБИЛИТАЦИЈ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ехабилитација започиње дан након операције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Њен је циљ што брже повратити функцију замењеног зглоба и тиме побољшати квалитет живота пацијента, повратак свакодневним активностима и повратак на радно мест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0000"/>
                </a:solidFill>
                <a:latin typeface="Corbel"/>
              </a:rPr>
              <a:t>КОЛЕНИ ЗГЛОБ</a:t>
            </a:r>
            <a:br>
              <a:rPr sz="3900"/>
            </a:br>
            <a:r>
              <a:rPr b="1" lang="vi-VN" sz="4000" spc="-1" strike="noStrike">
                <a:solidFill>
                  <a:srgbClr val="ff0000"/>
                </a:solidFill>
                <a:latin typeface="Tahoma"/>
              </a:rPr>
              <a:t> art</a:t>
            </a:r>
            <a:r>
              <a:rPr b="1" lang="sr-RS" sz="4000" spc="-1" strike="noStrike">
                <a:solidFill>
                  <a:srgbClr val="ff0000"/>
                </a:solidFill>
                <a:latin typeface="Corbel"/>
              </a:rPr>
              <a:t>.</a:t>
            </a:r>
            <a:r>
              <a:rPr b="1" lang="vi-VN" sz="4000" spc="-1" strike="noStrike">
                <a:solidFill>
                  <a:srgbClr val="ff0000"/>
                </a:solidFill>
                <a:latin typeface="Tahoma"/>
              </a:rPr>
              <a:t> genu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47560" y="16761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Најсложенији зглоб у људском телу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Чине га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1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 art. femorotibialis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art. femoropatellar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атела је највећа сезмоидна кост у људском телу, служи као ослонац за 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.quadriceps  који је главни активни стабилизатор коленог зглоб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Физикална терапиј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Болесници са протезом колена морају избегавати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какање са било каквих висина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лечање на оперисаном колену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ошење тешких предмета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ходање узбрдо и по клизавом тлу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орају под контролом имати своју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T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лан рехабилитације прави се индивидуално, зависи од стању мишића, покретљивости и боловима, и одвија се уз сарадњу болесника и физиотерапеу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ff0000"/>
                </a:solidFill>
                <a:latin typeface="Corbel"/>
              </a:rPr>
              <a:t>ПОМАГАЛ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47560" y="1599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иликом хода, може се користити ходалица, поготово код старијих особа, јер, осим што омогућује кретање уз растерећење кука, даје пацијенту стабилност и равнотеж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Штаке се увек користе након уградње ендопротезе колена, а пацијент их научи користити уз сарадњу са физиотерапеутом. Са штакама се учи тротактни и четворотактни ход, уз и низ степениц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Штап може олакшавати ход након захвата, ако се користи исправно, у руци супротне стране од оне на којој је уграђена ендопроте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572314"/>
                </a:solidFill>
                <a:latin typeface="Corbel"/>
              </a:rPr>
              <a:t>ФУНКЦИОНАЛНИ ТЕСТОВИ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За процену исхода лечења након уградње ендопротезе колена  уводе нумерички инструменати као што су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1.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Knee Society Clinical Rating System (KKS)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Harris Hip Score (HH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Упитника за самопроцену исход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Patient-Reported Outcome Measures (PROMs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47560" y="18284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следњих деценија фокус је на процени исхода интервенције из перспективе пацијент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У том циљу осмишљен је велики број упитника за самопроцену исхода названих  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Patient-Reported Outcome Measures (PROMs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оји су без обзира на недостатке, најбољи расположиви инструменти за мерење резултата, из перспективе пацијената и све су важнији у процени ефикасности третман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Упитника за самопроцену исход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Patient-Reported Outcome Measures (PROMs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47560" y="1828440"/>
            <a:ext cx="7499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ви упитници о мерама исхода које извештавају пацијенти су стандардизовани инструменти дизајнирани да мере специфичне субјективне феномене и концепте здравственог стања пацијената у различитим популацијам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Упитници за процену општег здравственог стањ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За процену исхода пост ОП користе се и упитници за процену општег здравственог стања, тзв генерички, међу којима су најчешће коришћени: </a:t>
            </a:r>
            <a:r>
              <a:rPr b="1" lang="ru-RU" sz="2000" spc="-1" strike="noStrike">
                <a:solidFill>
                  <a:srgbClr val="0070c0"/>
                </a:solidFill>
                <a:latin typeface="Tahoma"/>
                <a:ea typeface="Tahoma"/>
              </a:rPr>
              <a:t>Medical Outcomes Short Form (SF-36, SF-12) и EuroQOL questionnaire (EQ-5D/EQ/VAS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енерички или општи здравствени упитници су дизајнирани ради процене општег здравља за свако здравствено стање, без обзира на присуство или одсуство болести, инвалидитета или специфичних симптом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ви упитници описују глобални здравствени статус пацијента који је упоредив у различитим стањима. Упитници који се односе на опште здравствено стање процењују квалитет живота пацијената из њихове перспективе, односно субјективни осећај и запажање појединца о степену физичког, емоционалног и социјалног здрављ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Упитници за процену општег здравственог стањ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ви упитници описују глобални здравствени статус пацијента који је упоредив у различитим стањим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питници који се односе на опште здравствено стање процењују квалитет живота пацијената из њихове перспективе, односно субјективни осећај и запажање појединца о степену физичког, емоционалног и социјалног здрављ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Упитници за процену квалитета живот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ови специфични упитници су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steoArthritis Knee and Hip Quality Of Life (OAKHQOL)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Knee Quality of Life-26 (KQOL-26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ви специфични упитници морају користити увек у комбинацији са функционалним резултати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ahoma"/>
                <a:ea typeface="Tahoma"/>
              </a:rPr>
              <a:t>Упитник за самопроцену исхода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ahoma"/>
                <a:ea typeface="Tahoma"/>
              </a:rPr>
              <a:t>Patient-Reported Outcome Measures (PROMs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 већини објављених истраживања, исход  ПТГ, процењује се у односу на бол, функцију и квалитет живота, који се утврђују путем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упитника за самопроцен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 PROM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У процени исхода све чешће се користе и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мерења заснована на извођењу одређених радњи по инструкцијам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тзв. Performance-based outcome meas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Нека од таквих мерења су: „Timed Up and Go Test―, „Stair Climbing Test“ и „Six Minute Walk Test“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300" spc="-1" strike="noStrike">
                <a:solidFill>
                  <a:srgbClr val="ff0000"/>
                </a:solidFill>
                <a:latin typeface="Gill Sans MT"/>
              </a:rPr>
              <a:t>MO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ако у истарживањима, тако и у клиничкој пракси, мерење обима покрета ОП, као објективна мера исхода, такође је широко у уптреб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 процени исхода након ТА колена често се користе и мерењ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ишићне снаге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оцена баланса 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нализа хо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572314"/>
                </a:solidFill>
                <a:latin typeface="Corbel"/>
              </a:rPr>
              <a:t>ПОКРЕТЉИВОС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окретљивост коленог зглоба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Активна екстензија је могућа до  0°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асивн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је могућа и хиперектензија до 5°, преко 15° сматра се патолошком хиперектензијо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Активна флексија изводи се од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° до 135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асивна до 160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ЕВАЛУАЦИЈА  ФУНКЦИЈА  ЛОКОМОТОРНОГ  АПАРАТ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ерење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покретљивости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зглобова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ерење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обима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екстремитета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ерење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дужине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екстремитета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Испитивање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функције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ишића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ануелним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ишићним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тестом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ММТ</a:t>
            </a:r>
            <a:r>
              <a:rPr b="1" lang="en-AU" sz="31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Тестирање способности извођења активности дневнога живота (АЏ)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Анализа постуре тела (процена држања)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Анализа (процена) хода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Анкетна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процена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функције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колена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Скала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за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процену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активности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дневног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живота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АДЖ</a:t>
            </a:r>
            <a:r>
              <a:rPr b="1" lang="sr-Latn-CS" sz="2800" spc="-1" strike="noStrike">
                <a:solidFill>
                  <a:srgbClr val="ff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ледећи упитник је дизајниран тако да утврди симптоме и ограничења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 која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мате док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обавља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уобичајене дневне активности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Молимо вас да одговорите на питања тако што ћете 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уписати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зјаву која најбоље описује 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ваше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скуство у протеклих 1 до 2 дана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а дато питање 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постоје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више од једног исказа , али молимо вас да означите САМО изјав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кој</a:t>
            </a:r>
            <a:r>
              <a:rPr b="0" lang="sr-CS" sz="2700" spc="-1" strike="noStrike">
                <a:solidFill>
                  <a:srgbClr val="000000"/>
                </a:solidFill>
                <a:latin typeface="Tahoma"/>
                <a:ea typeface="Tahom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најбоље описују вашу ситуацију током уобичајене дневне активности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228600" y="2057400"/>
          <a:ext cx="8610480" cy="4632480"/>
        </p:xfrm>
        <a:graphic>
          <a:graphicData uri="http://schemas.openxmlformats.org/drawingml/2006/table">
            <a:tbl>
              <a:tblPr/>
              <a:tblGrid>
                <a:gridCol w="1295280"/>
                <a:gridCol w="1165320"/>
                <a:gridCol w="1230480"/>
                <a:gridCol w="1228680"/>
                <a:gridCol w="1230120"/>
                <a:gridCol w="1230480"/>
                <a:gridCol w="1230120"/>
              </a:tblGrid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su prisut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m simptome ali ne utiču na moju aktiv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ptomi u manjoj meri utiču na moju aktiv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ptomi umereno utiču na moju aktiv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ptomi značajno utiču na moju aktiv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ptomi me sprečavaju u obavljanju AD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o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stabilnost, proklizavanje il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kripanje u kol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b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m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Line 1"/>
          <p:cNvSpPr/>
          <p:nvPr/>
        </p:nvSpPr>
        <p:spPr>
          <a:xfrm>
            <a:off x="0" y="-1440"/>
            <a:ext cx="603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38268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ee Outcome Survey Activities of Daily Living Scale (AD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 којој мери се сваки од следећих симптома утичу на ниво дневне активн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228600" y="990720"/>
          <a:ext cx="8763120" cy="5730840"/>
        </p:xfrm>
        <a:graphic>
          <a:graphicData uri="http://schemas.openxmlformats.org/drawingml/2006/table">
            <a:tbl>
              <a:tblPr/>
              <a:tblGrid>
                <a:gridCol w="1252440"/>
                <a:gridCol w="1251000"/>
                <a:gridCol w="1252440"/>
                <a:gridCol w="1251000"/>
                <a:gridCol w="1252800"/>
                <a:gridCol w="1250640"/>
                <a:gridCol w="1252800"/>
              </a:tblGrid>
              <a:tr h="54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ivnost bez poteškoć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ivnost  uz male poteškoć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ivnost  sa poteškoć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ivnost   sa izraženim  poteškoć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ivnost  se veoma teško izvo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 sposoban da izvedem datu ak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d uz stepe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d niz stepe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knuti na kol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učan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ti sa savijenim kolen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ti sa stol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ap Symbols"/>
                          <a:ea typeface="Times New Roman"/>
                        </a:rPr>
                        <a:t>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Line 1"/>
          <p:cNvSpPr/>
          <p:nvPr/>
        </p:nvSpPr>
        <p:spPr>
          <a:xfrm>
            <a:off x="0" y="-3240"/>
            <a:ext cx="603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35640" y="1800"/>
            <a:ext cx="687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Limitations With Activities of Daily Liv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es your knee affect your ability to: (check one answer on each 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Tahoma"/>
                <a:ea typeface="Tahoma"/>
              </a:rPr>
              <a:t>Скорирање</a:t>
            </a:r>
            <a:r>
              <a:rPr b="1" lang="sr-Latn-CS" sz="4300" spc="-1" strike="noStrike">
                <a:solidFill>
                  <a:srgbClr val="572314"/>
                </a:solidFill>
                <a:latin typeface="Tahoma"/>
                <a:ea typeface="Tahoma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Вредновањ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оценам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5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0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адњ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лон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Укупан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бир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одел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70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омнож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100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б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обио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укупан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кор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оцентима, АДЛС скор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пример, ако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особ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12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активност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обиј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оцену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5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в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активност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оцену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4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друг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колона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тоталн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скор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биће 12x5 = 60 поена, плус 2 x 4 = 8 поена, 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тоталн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збир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68 поена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АДЛС скор ће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бити</a:t>
            </a:r>
            <a:r>
              <a:rPr b="0" lang="sr-Latn-C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68/70 x 100 = 97%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Knee Society Sc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Упитник који се састоји из два дела од којих први процењује анатомске параметре функције колена и присуство бола а други клиничке и субјективне параметре функције колен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истем бодовања и упитник је развијен 1989. године а модификован и проширен 2011. и у широкој је примени у објективизацији резултата лечења након тоталне артропластике али и других оперативних процедура на колен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Knee Society Sc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ви де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опуњава лекар и садржи питања о постојању и квалитету бола као и објективне мере обима покрета, присуства контрактуре колена и дефицита екстензије колена, као и процену степена антеропостериорне и медиолатералне стабилности колена на основу клиничког преглед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Knee Society Sc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руги де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астоји се од упитника на који одговара пацијент а односи се на функционални статус пацијента у зависности од способности савладавања одређених свакодневних активности (дужина хода на равном изражена у метрима, могућност савладавања хода уз и низ степенице и потреба - неопходност коришћења помагала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Knee Society Sc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вај скор је погодан за проспективне студије и процену објективног и субјективног статуса пацијента након операција тоталних или парцијалних артропластика колен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коринг систем је валиди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и дозвољава широку примену без обзира на пол, старост, ниво активности и тип примењеног имплантат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Oxford Knee Sc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Упитник процене стања колена који попуњава испитаник а састоји се из 12 питања којима се процењује функционални статус пацијента у обављању свакодневних активности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јен је као специфично средство процене функције колена након тоталне артропластике колена, које даје сам пацијент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Артропластика је индикована код болесника са наглашеним болом, јачим ограничењем обима покрета и лошом квалитетом живот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отална артропластика зглоба се изводи када дође до знатног уништења хрскавице и костију које чине зглоб, а које су изгубиле покретљивост или када је присутна бол у зглобу с ограниченом покретљивошћу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Oxford Knee Sc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себни квалитети овог скоринг система су да је кратак, практичан, поуздан, валидан и сензитиван на клинички важне промене до којих долази током времен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ff0000"/>
                </a:solidFill>
                <a:latin typeface="Corbel"/>
              </a:rPr>
              <a:t>Т</a:t>
            </a: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imed up-and-go (TUG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тод процене покретљивости и функције локомоторног система код старијих пацијенат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УГ-тест је објективан, брз и лак за извођењ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ри се време које је потребно да испитаник устане из стандардне столице са наслоном  ходајући пређе удаљеност од 3 метра, окрене се, хода назад до столице и седн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спитаник носи своју редовну обућу и користи своја уобичајена помагала за ход (ходалица, штап или ништа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ије дозвољена било каква помоћ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о таквога стања могу довести све врсте дегенеративних болести, преломи, урођене аномалије развоја, реуматске болести, асептична некроза главе бедрене кости, опште болести раста које узрокују неједнаки раст зглобних тела, тумори и неуспели пређашњи хируршки захват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orbel"/>
              </a:rPr>
              <a:t>Специфичне компликације артропластике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47560" y="1599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Лабавост ендопротез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нфекција подручја ендопротез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шчашење ендопротез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еломи делова ендопротезе и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Стварање периартикуларних калцификат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Ишчашење је релативно је честа компликација и сусреће се у око 4% случаје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8040" indent="-43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Јавља се због лоше постављене ендопротезе, мишићне слабости или слабости околних меких тки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900" spc="-1" strike="noStrike">
                <a:solidFill>
                  <a:srgbClr val="ff0000"/>
                </a:solidFill>
                <a:latin typeface="Corbel"/>
              </a:rPr>
              <a:t>ЕНДОПРОТЕЗА КОЛЕНОГ ЗГЛОБ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Хирушка потпуна или делимична замена зглобног дела коленог зглоб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Индикациј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Дегенеративна болест коленог зглоб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Дефомитет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Реуматоидни артрити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Псоријазни артрити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траум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тумо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72314"/>
                </a:solidFill>
                <a:latin typeface="Tahoma"/>
                <a:ea typeface="Tahoma"/>
              </a:rPr>
              <a:t>ПОДЕЛА ЕНДОПРОТЕЗА КОЛЕНА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ма начину фиксације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1.цементн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2. бесцементн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Ко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цементних фиксац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се врши путем коштаног цемент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полиметилметакрилат) који ствара чврсти слој између кости и површине ендопротез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Бесцементе протез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имају површину сличну кости (порозну)</a:t>
            </a:r>
            <a:r>
              <a:rPr b="0" lang="vi-VN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Фиксација је динамичка јер врши стално ремоделирање коштаном изградњом услед оптерећењем насталих микрофрактур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ПАРЦИЈАЛНЕ ЕНДОПРОТЕЗ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Мења се или феморотибијални зглоб (чешће) или пателофеморални.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Код феморотибијалног вештачког зглоба обе компоненте су израђене од метала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легуре кобалта и хрома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змеђу којих се налази полиетиленски уметак.</a:t>
            </a:r>
            <a:r>
              <a:rPr b="0" lang="vi-V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Индикациони подручје за парцијалне ендопротезе колена је знатно уж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7:09:59Z</dcterms:created>
  <dc:creator>a</dc:creator>
  <dc:description/>
  <dc:language>en-US</dc:language>
  <cp:lastModifiedBy>Windows User</cp:lastModifiedBy>
  <dcterms:modified xsi:type="dcterms:W3CDTF">2020-02-12T10:38:11Z</dcterms:modified>
  <cp:revision>134</cp:revision>
  <dc:subject/>
  <dc:title>Евалуација пацијената са ендопротезом колена</dc:title>
</cp:coreProperties>
</file>